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3CA-BB47-4853-96BD-8F86D307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760-7761-4F27-8D36-D5EA61C1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7AE-B204-44AB-9F7A-133EE380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7CD-8A27-4891-B263-EDAE9249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AF78-46E8-4A4C-A38C-36E7FF23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8FC6-D947-445A-BD2F-7E5BB306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FEC2-A6EE-45D8-8205-8CCC43E8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7C41-65AF-496F-BB1E-11F405E0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832F-E0ED-4376-8F9E-254E8F5F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6133-C5E7-4EFE-A5D8-09A0B980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5FFE-2162-459E-B382-47529714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2DE6-729D-456D-8575-6D093BB3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B456-17E2-45B6-8615-20F2ED85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0ABE-C5BA-477E-907F-2DC4C945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22DB-CD14-4817-AB9B-C5B2E7F0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CF09-9665-4270-90C6-E40AF31F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5836-6AA2-4348-A823-8EE6CB07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642-B499-467D-A247-2A1A3D7E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D9E-2EA8-4BC3-91C1-C76B6083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2B4-E1A5-46B8-B7C2-3DD9FA1D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48B-8AB4-4E82-8E03-B34EB18E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6B7-A1EE-416B-97F4-AA00CF58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F2C-2EC6-40C1-AACD-CE6ED3D7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279-FA27-4EBD-94BD-2F1C9BC0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B7D3-FA67-4DAD-B3FC-BABC478EE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EFC7-2086-43B5-89CF-0E6DAA13E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video" Target="file:///tmp/home/.config/libreoffice/4/user/gallery/Embedded%20Sound%202" TargetMode="External"/><Relationship Id="rId4" Type="http://schemas.microsoft.com/office/2007/relationships/media" Target="file:///tmp/home/.config/libreoffice/4/user/gallery/Embedded%20Sound%202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914400"/>
            <a:ext cx="6324480" cy="26668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Times New Roman"/>
              </a:rPr>
              <a:t>Sprains and Bruis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440" y="4723920"/>
            <a:ext cx="3352680" cy="685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Jesse Nick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Sprains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uises Occu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352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ains result from a joint being suddenly and violently stretched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s that are frequently sprained are wrists, knees, and ank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ises result from a blow to parts of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rot="10800000">
            <a:off x="6477120" y="3979440"/>
            <a:ext cx="3657600" cy="2878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962520" y="617220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 of Sprains and Bru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210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ains and bruises are very common, but usually not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rained or bruised part is often painful, and may become swol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10080" y="4191120"/>
            <a:ext cx="32767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Relieve P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Sw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use the sprained or bruised part of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vate the sprained or bruised pa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cold packs for the first 24 hours after the sprain or bruise occ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pain and swelling doesn’t stop, see a do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86200" y="4800600"/>
            <a:ext cx="1655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6:52Z</dcterms:created>
  <dc:creator>Kraybill Campus LMS</dc:creator>
  <dc:description/>
  <dc:language>en-US</dc:language>
  <cp:lastModifiedBy>Kraybill Campus LMS</cp:lastModifiedBy>
  <dcterms:modified xsi:type="dcterms:W3CDTF">2011-05-25T16:05:58Z</dcterms:modified>
  <cp:revision>6</cp:revision>
  <dc:subject/>
  <dc:title>Sprains and Bruises</dc:title>
</cp:coreProperties>
</file>